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EEFA-5DF5-455F-9ED1-E8AF4FE3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F0D4-7706-4D51-8C32-7FA97109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264-3080-4455-89D2-61B4446D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29D-31EB-4237-8805-88A2F3AE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49C4-2F93-4DD0-8F9A-EB9D7525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6760-D34F-438C-8F34-58AF1D35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D55B-DBEC-4A7C-AA1A-33916345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8861-72EB-42A9-B36F-9307F267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E611-A238-40A6-98D6-BC08B321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DA1F-8626-4809-9A02-FFA9CA3D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27FC-01C9-434C-B92F-7A171145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CFCD-9842-46C1-B7AD-5A2C1A41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19C0-6AAD-4720-B19F-2D1D184D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6302-2190-4BF8-B6B7-EC96D6ED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95FD-2BC1-498E-B535-04D96A7B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4EDB-622B-48E4-930F-E70C1991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1AD5-D23C-4380-9286-6D61D5EF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89FAC-7C8D-4C23-BA75-ED80CEF6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2FD71-B9D4-45F1-B2AA-50E9C022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39F7F-875E-4097-8B06-42D56CAF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7F635-7DAB-4DE3-860C-DC13CC8B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743CA-26F5-4940-8EAF-D87E4FD8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440F-83C2-473D-AAF7-A827E60B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A7063-8145-43F6-B436-FD7DC757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5B16E-DC59-4920-AF13-DA19946B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68820-7DB8-47B6-8474-654B404B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41379-3D7F-459A-B037-9614BCCF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69C13-102E-4DCC-812E-2EED48EE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26D33-D4D5-4134-8D87-EAA4E1BB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71D68-4DEB-4FB0-8B36-78F9B970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75C8A-AD66-4D87-ADEA-83C3EA27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6C164-DC68-4219-AFB3-5D386128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2D37D-6BE5-490C-BAD2-AB122B30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8F3-DB1E-4618-AE5D-2B91315D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16CAA-2AB9-4E06-98EA-C486A1E0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B8847-2611-4A0A-A90A-563857C0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AA6E5-7D93-42AA-8D4F-871CDDD4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57ED9-11F0-475B-B105-E1796C92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E65B0-AFD4-47C9-928B-764C1880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FE1D8-83E8-4179-963F-CE1E250B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05830-5F99-4922-BBA7-442D54D4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AD28F-8438-4048-A649-A9AB9CB4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993DD-0150-49D9-B584-E399A9DB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52720-1ECF-44C8-9637-B1A1ED63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7221-0284-4B7D-9993-90D394F6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7432F-A107-4C5B-BFAC-FDC9AA78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14B92-3732-4624-85E8-4540E4F4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05E10-67A2-4DCB-AC87-6F68ACCE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F4DD8-F2EB-48A6-9636-DEBD6B2E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97CA9-4514-4394-B073-7E9E9794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B9AF2-E54A-4D7F-A6B5-A49C6358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C5950-2B33-4B38-900F-EA65D1D9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7EB68-6A43-4532-A026-976C0E7C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F4CF9-FC59-42FB-9FEF-E2A11B46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5FCC0-0143-4FF3-8159-18F1380C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D645-0B99-43FB-A8D2-580DD732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89619-F3A8-4513-B2E5-3CA3A429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131E-2863-46FD-9CF4-F67303E8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8580-EAC8-4B4D-8F8E-111DB709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5B4-CA4A-4B36-9B86-C173EC05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모서리가 둥근 직사각형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" name="모서리가 둥근 직사각형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모서리가 둥근 직사각형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0C56-723F-4148-8480-52F38D537C49}" type="slidenum">
              <a:rPr b="0" lang="ko-K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모서리가 둥근 직사각형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" name="모서리가 둥근 직사각형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모서리가 둥근 직사각형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854C-E114-4451-94D9-9CAA39CB5755}" type="slidenum">
              <a:rPr b="0" lang="ko-K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모서리가 둥근 직사각형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1" name="모서리가 둥근 직사각형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모서리가 둥근 직사각형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4AE4-0C6B-43AD-B3F9-12A9661DE546}" type="slidenum">
              <a:rPr b="0" lang="ko-K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모서리가 둥근 직사각형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719E-9715-420B-B6F6-2A3EE470CEF4}" type="slidenum">
              <a:rPr b="0" lang="ko-K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모서리가 둥근 직사각형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한쪽 모서리가 둥근 사각형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8AEF-BC14-4CAE-8159-3FF8DB79BB4D}" type="slidenum">
              <a:rPr b="0" lang="ko-KR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ath Finding…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5429160" y="4714920"/>
            <a:ext cx="292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9f2936"/>
                </a:solidFill>
                <a:latin typeface="굴림"/>
              </a:rPr>
              <a:t>발표자</a:t>
            </a:r>
            <a:r>
              <a:rPr b="1" lang="en-US" sz="2500" spc="-1" strike="noStrike">
                <a:solidFill>
                  <a:srgbClr val="9f2936"/>
                </a:solidFill>
                <a:latin typeface="굴림"/>
              </a:rPr>
              <a:t> </a:t>
            </a:r>
            <a:r>
              <a:rPr b="1" lang="en-US" sz="2500" spc="-1" strike="noStrike">
                <a:solidFill>
                  <a:srgbClr val="9f2936"/>
                </a:solidFill>
                <a:latin typeface="굴림"/>
              </a:rPr>
              <a:t>: </a:t>
            </a:r>
            <a:r>
              <a:rPr b="1" lang="ko-KR" sz="2500" spc="-1" strike="noStrike">
                <a:solidFill>
                  <a:srgbClr val="9f2936"/>
                </a:solidFill>
                <a:latin typeface="굴림"/>
              </a:rPr>
              <a:t>이동섭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9f2936"/>
                </a:solidFill>
                <a:latin typeface="굴림"/>
              </a:rPr>
              <a:t>발표일 </a:t>
            </a:r>
            <a:r>
              <a:rPr b="1" lang="en-US" sz="2500" spc="-1" strike="noStrike">
                <a:solidFill>
                  <a:srgbClr val="9f2936"/>
                </a:solidFill>
                <a:latin typeface="굴림"/>
              </a:rPr>
              <a:t>: 07.05.30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3. A*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고리즘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인접한 상태들을 조사해 나가면서 시작 상태로부터 목표에 이르는 가장 싼 비용의 경로를 찾는 알고리즘 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(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아직 조사하지 않은  상태들 중 가장 유망한 상태를 조사하는 과정을 반복 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- “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가장 유망한” 상태 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–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그 위치를 지나서 목표에 도달하는 경로의 비용이 가장 싼 위치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현재 상태에 인접한 상태들 중 가장 낮은 비용을 가지는 지점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(A)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지점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(A)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와 목적지 까지 드는 비용을 더한 값이 가장 낮은 비용이 드는 경로를 선택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03280" y="530280"/>
            <a:ext cx="8183520" cy="5470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4. Suby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알고리즘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출발지부터 인접해 있는 지점들에 가중치를 매기고 다시 인접해 있는 지점에 인접해 있는 지점들에게 가중치를 매겨서 가장 높은 가중치를 따라 가는 방법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즉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마스크를 쓰우는 방법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571920" y="3857760"/>
          <a:ext cx="1714320" cy="109692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571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9f2936"/>
                </a:solidFill>
                <a:latin typeface="굴림"/>
              </a:rPr>
              <a:t>문제점</a:t>
            </a:r>
            <a:r>
              <a:rPr b="1" lang="en-US" sz="2800" spc="-1" strike="noStrike">
                <a:solidFill>
                  <a:srgbClr val="9f2936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9f2936"/>
                </a:solidFill>
                <a:latin typeface="굴림"/>
              </a:rPr>
              <a:t>및 아쉬운 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- A*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Algorithm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대한 명확한 설명의 부재로 인한 이해하는데 장시간 시간 소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더 많은 알고리즘 구현을 못한 것에 대한 아쉬움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500" spc="-1" strike="noStrike">
                <a:solidFill>
                  <a:srgbClr val="9f2936"/>
                </a:solidFill>
                <a:latin typeface="Verdana"/>
              </a:rPr>
              <a:t>시  연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503280" y="529920"/>
            <a:ext cx="8183520" cy="539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9f2936"/>
                </a:solidFill>
                <a:latin typeface="굴림"/>
              </a:rPr>
              <a:t>결론 및 프로젝트에서 느낀 점</a:t>
            </a:r>
            <a:r>
              <a:rPr b="1" lang="en-US" sz="2800" spc="-1" strike="noStrike">
                <a:solidFill>
                  <a:srgbClr val="9f293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최단 거리 알고리즘 만을 비교한다면 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A*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알고리즘이 뛰어 나지만 최단 거리가 아니라면 더 시간상으로 더 빠른 알고리즘이 생길 수 있다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A*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알고리즘처럼  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Heuristic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한 것을 적용하는 알고리즘이 필요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똑같은 알고리즘을 사용하더라도 그 구현 방법에 따라 달라질 수 도 있을 것이란 생각이 들었다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코드의 최적화하는 노력이 필요하겠다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9f2936"/>
                </a:solidFill>
                <a:latin typeface="Arial"/>
              </a:rPr>
              <a:t>활용 방안</a:t>
            </a:r>
            <a:r>
              <a:rPr b="1" lang="en-US" sz="3000" spc="-1" strike="noStrike">
                <a:solidFill>
                  <a:srgbClr val="9f2936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ko-KR" sz="2500" spc="-1" strike="noStrike">
                <a:solidFill>
                  <a:srgbClr val="000000"/>
                </a:solidFill>
                <a:latin typeface="Arial"/>
              </a:rPr>
              <a:t>이동 경로 시뮬레이션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ko-KR" sz="2500" spc="-1" strike="noStrike">
                <a:solidFill>
                  <a:srgbClr val="000000"/>
                </a:solidFill>
                <a:latin typeface="Arial"/>
              </a:rPr>
              <a:t>알고리즘 테스트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개발 일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571680" y="1571760"/>
            <a:ext cx="8048520" cy="367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9f2936"/>
                </a:solidFill>
                <a:latin typeface="Arial"/>
              </a:rPr>
              <a:t>Q  &amp;  A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03280" y="529920"/>
            <a:ext cx="8183520" cy="539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f2936"/>
                </a:solidFill>
                <a:latin typeface="Arial"/>
                <a:ea typeface="HY중고딕"/>
              </a:rPr>
              <a:t>Table of Content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개발 동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개발 목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 Finding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전체 구조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기능별 세부 설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문제점 및 아쉬운 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시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결론 및 프로젝트에서 느낀 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활용 방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개발 일정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9f2936"/>
                </a:solidFill>
                <a:latin typeface="Arial"/>
              </a:rPr>
              <a:t>개발 동기 </a:t>
            </a:r>
            <a:r>
              <a:rPr b="1" lang="en-US" sz="3000" spc="-1" strike="noStrike">
                <a:solidFill>
                  <a:srgbClr val="9f2936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ko-KR" sz="2500" spc="-1" strike="noStrike">
                <a:solidFill>
                  <a:srgbClr val="000000"/>
                </a:solidFill>
                <a:latin typeface="Arial"/>
              </a:rPr>
              <a:t>마이크로 마우스등과 같은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1" lang="ko-KR" sz="2500" spc="-1" strike="noStrike">
                <a:solidFill>
                  <a:srgbClr val="000000"/>
                </a:solidFill>
                <a:latin typeface="Arial"/>
              </a:rPr>
              <a:t>를 찾는 효율적인 방법에는 무엇이 있는지 알자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 SLAM </a:t>
            </a:r>
            <a:r>
              <a:rPr b="1" lang="ko-KR" sz="2500" spc="-1" strike="noStrike">
                <a:solidFill>
                  <a:srgbClr val="000000"/>
                </a:solidFill>
                <a:latin typeface="Arial"/>
              </a:rPr>
              <a:t>을 구현하기 위한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ase </a:t>
            </a:r>
            <a:r>
              <a:rPr b="1" lang="ko-KR" sz="2500" spc="-1" strike="noStrike">
                <a:solidFill>
                  <a:srgbClr val="000000"/>
                </a:solidFill>
                <a:latin typeface="Arial"/>
              </a:rPr>
              <a:t>를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500" spc="-1" strike="noStrike">
                <a:solidFill>
                  <a:srgbClr val="000000"/>
                </a:solidFill>
                <a:latin typeface="Arial"/>
              </a:rPr>
              <a:t>생각해 보자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9f2936"/>
                </a:solidFill>
                <a:latin typeface="Arial"/>
              </a:rPr>
              <a:t>개발 목적</a:t>
            </a:r>
            <a:r>
              <a:rPr b="1" lang="en-US" sz="3000" spc="-1" strike="noStrike">
                <a:solidFill>
                  <a:srgbClr val="9f2936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rial"/>
              </a:rPr>
              <a:t>시작점에서 출발하여 도착지 까지 가는 방법 중 가장 효율적인 방법이 무엇인가 고찰해 보기 위해 여러 알고리즘을 적용하여 보자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0000"/>
                </a:solidFill>
                <a:latin typeface="Arial"/>
              </a:rPr>
              <a:t>효율 적인 방법을 찾는 척도는 걸리는 시간과 거리를 가지고 알아본다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6" descr=""/>
          <p:cNvPicPr/>
          <p:nvPr/>
        </p:nvPicPr>
        <p:blipFill>
          <a:blip r:embed="rId1"/>
          <a:stretch/>
        </p:blipFill>
        <p:spPr>
          <a:xfrm>
            <a:off x="642960" y="1415880"/>
            <a:ext cx="5400720" cy="3600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f2936"/>
                </a:solidFill>
                <a:latin typeface="Arial"/>
              </a:rPr>
              <a:t>Path Finding </a:t>
            </a:r>
            <a:r>
              <a:rPr b="1" lang="ko-KR" sz="3000" spc="-1" strike="noStrike">
                <a:solidFill>
                  <a:srgbClr val="9f2936"/>
                </a:solidFill>
                <a:latin typeface="Arial"/>
              </a:rPr>
              <a:t>전체 구조도</a:t>
            </a:r>
            <a:r>
              <a:rPr b="1" lang="en-US" sz="3000" spc="-1" strike="noStrike">
                <a:solidFill>
                  <a:srgbClr val="9f2936"/>
                </a:solidFill>
                <a:latin typeface="Arial"/>
              </a:rPr>
              <a:t>. (</a:t>
            </a:r>
            <a:r>
              <a:rPr b="1" lang="ko-KR" sz="3000" spc="-1" strike="noStrike">
                <a:solidFill>
                  <a:srgbClr val="9f2936"/>
                </a:solidFill>
                <a:latin typeface="Arial"/>
              </a:rPr>
              <a:t>예상 도면</a:t>
            </a:r>
            <a:r>
              <a:rPr b="1" lang="en-US" sz="3000" spc="-1" strike="noStrike">
                <a:solidFill>
                  <a:srgbClr val="9f2936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100000"/>
              </a:lnSpc>
              <a:spcBef>
                <a:spcPts val="224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타원 4"/>
          <p:cNvSpPr/>
          <p:nvPr/>
        </p:nvSpPr>
        <p:spPr>
          <a:xfrm>
            <a:off x="714240" y="1558800"/>
            <a:ext cx="3929040" cy="3571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28" name="그룹 14"/>
          <p:cNvGrpSpPr/>
          <p:nvPr/>
        </p:nvGrpSpPr>
        <p:grpSpPr>
          <a:xfrm>
            <a:off x="1928880" y="5130720"/>
            <a:ext cx="1928880" cy="911520"/>
            <a:chOff x="1928880" y="5130720"/>
            <a:chExt cx="1928880" cy="911520"/>
          </a:xfrm>
        </p:grpSpPr>
        <p:sp>
          <p:nvSpPr>
            <p:cNvPr id="229" name="아래쪽 화살표 5"/>
            <p:cNvSpPr/>
            <p:nvPr/>
          </p:nvSpPr>
          <p:spPr>
            <a:xfrm>
              <a:off x="2571840" y="5130720"/>
              <a:ext cx="214200" cy="493560"/>
            </a:xfrm>
            <a:prstGeom prst="downArrow">
              <a:avLst>
                <a:gd name="adj1" fmla="val 50000"/>
                <a:gd name="adj2" fmla="val 34574"/>
              </a:avLst>
            </a:prstGeom>
            <a:noFill/>
            <a:ln w="42480">
              <a:solidFill>
                <a:srgbClr val="b05c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" name="TextBox 6"/>
            <p:cNvSpPr/>
            <p:nvPr/>
          </p:nvSpPr>
          <p:spPr>
            <a:xfrm>
              <a:off x="1928880" y="5673960"/>
              <a:ext cx="192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ap </a:t>
              </a:r>
              <a:r>
                <a:rPr b="0" lang="ko-KR" sz="1800" spc="-1" strike="noStrike">
                  <a:solidFill>
                    <a:srgbClr val="000000"/>
                  </a:solidFill>
                  <a:latin typeface="Verdana"/>
                </a:rPr>
                <a:t>부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31" name="그룹 13"/>
          <p:cNvGrpSpPr/>
          <p:nvPr/>
        </p:nvGrpSpPr>
        <p:grpSpPr>
          <a:xfrm>
            <a:off x="4660920" y="2252520"/>
            <a:ext cx="3768840" cy="1091880"/>
            <a:chOff x="4660920" y="2252520"/>
            <a:chExt cx="3768840" cy="1091880"/>
          </a:xfrm>
        </p:grpSpPr>
        <p:sp>
          <p:nvSpPr>
            <p:cNvPr id="232" name="타원 8"/>
            <p:cNvSpPr/>
            <p:nvPr/>
          </p:nvSpPr>
          <p:spPr>
            <a:xfrm>
              <a:off x="4660920" y="2252520"/>
              <a:ext cx="1285920" cy="500040"/>
            </a:xfrm>
            <a:prstGeom prst="ellipse">
              <a:avLst/>
            </a:prstGeom>
            <a:noFill/>
            <a:ln w="42480">
              <a:solidFill>
                <a:srgbClr val="b05c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TextBox 11"/>
            <p:cNvSpPr/>
            <p:nvPr/>
          </p:nvSpPr>
          <p:spPr>
            <a:xfrm>
              <a:off x="7000920" y="2701800"/>
              <a:ext cx="142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Verdana"/>
                </a:rPr>
                <a:t>거리 및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Verdana"/>
                </a:rPr>
                <a:t>시간 측정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34" name="그룹 15"/>
          <p:cNvGrpSpPr/>
          <p:nvPr/>
        </p:nvGrpSpPr>
        <p:grpSpPr>
          <a:xfrm>
            <a:off x="3571920" y="1487520"/>
            <a:ext cx="4714920" cy="796680"/>
            <a:chOff x="3571920" y="1487520"/>
            <a:chExt cx="4714920" cy="796680"/>
          </a:xfrm>
        </p:grpSpPr>
        <p:sp>
          <p:nvSpPr>
            <p:cNvPr id="235" name="타원 7"/>
            <p:cNvSpPr/>
            <p:nvPr/>
          </p:nvSpPr>
          <p:spPr>
            <a:xfrm>
              <a:off x="3571920" y="1487520"/>
              <a:ext cx="1400040" cy="357120"/>
            </a:xfrm>
            <a:prstGeom prst="ellipse">
              <a:avLst/>
            </a:prstGeom>
            <a:noFill/>
            <a:ln w="42480">
              <a:solidFill>
                <a:srgbClr val="b05c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위로 굽은 화살표 9"/>
            <p:cNvSpPr/>
            <p:nvPr/>
          </p:nvSpPr>
          <p:spPr>
            <a:xfrm rot="5400000">
              <a:off x="5337720" y="772200"/>
              <a:ext cx="182520" cy="2317680"/>
            </a:xfrm>
            <a:prstGeom prst="pie">
              <a:avLst/>
            </a:prstGeom>
            <a:noFill/>
            <a:ln w="42480">
              <a:solidFill>
                <a:srgbClr val="b05c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" name="TextBox 12"/>
            <p:cNvSpPr/>
            <p:nvPr/>
          </p:nvSpPr>
          <p:spPr>
            <a:xfrm>
              <a:off x="6607440" y="1915920"/>
              <a:ext cx="16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Verdana"/>
                </a:rPr>
                <a:t>알고리즘 파일 선택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38" name="굽은 화살표 18"/>
          <p:cNvSpPr/>
          <p:nvPr/>
        </p:nvSpPr>
        <p:spPr>
          <a:xfrm flipV="1">
            <a:off x="5289480" y="2772720"/>
            <a:ext cx="1639800" cy="282600"/>
          </a:xfrm>
          <a:prstGeom prst="pi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03280" y="530280"/>
            <a:ext cx="8183520" cy="5470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9f2936"/>
                </a:solidFill>
                <a:latin typeface="Arial"/>
              </a:rPr>
              <a:t>기능별 세부 설명</a:t>
            </a:r>
            <a:r>
              <a:rPr b="1" lang="en-US" sz="28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f2936"/>
                </a:solidFill>
                <a:latin typeface="Arial"/>
              </a:rPr>
              <a:t>( Map </a:t>
            </a:r>
            <a:r>
              <a:rPr b="1" lang="ko-KR" sz="2800" spc="-1" strike="noStrike">
                <a:solidFill>
                  <a:srgbClr val="9f2936"/>
                </a:solidFill>
                <a:latin typeface="Arial"/>
              </a:rPr>
              <a:t>관련 </a:t>
            </a:r>
            <a:r>
              <a:rPr b="1" lang="en-US" sz="2800" spc="-1" strike="noStrike">
                <a:solidFill>
                  <a:srgbClr val="9f293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FC </a:t>
            </a:r>
            <a:r>
              <a:rPr b="1" lang="ko-KR" sz="2500" spc="-1" strike="noStrike">
                <a:solidFill>
                  <a:srgbClr val="000000"/>
                </a:solidFill>
                <a:latin typeface="Arial"/>
              </a:rPr>
              <a:t>를 이용한 간단한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p Desig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1" lang="ko-KR" sz="2500" spc="-1" strike="noStrike">
                <a:solidFill>
                  <a:srgbClr val="000000"/>
                </a:solidFill>
                <a:latin typeface="Arial"/>
              </a:rPr>
              <a:t>을 쉽게 바꿀수 있도록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p.txt </a:t>
            </a:r>
            <a:r>
              <a:rPr b="1" lang="ko-KR" sz="2500" spc="-1" strike="noStrike">
                <a:solidFill>
                  <a:srgbClr val="000000"/>
                </a:solidFill>
                <a:latin typeface="Arial"/>
              </a:rPr>
              <a:t>파일로 기록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p </a:t>
            </a:r>
            <a:r>
              <a:rPr b="1" lang="ko-KR" sz="2500" spc="-1" strike="noStrike">
                <a:solidFill>
                  <a:srgbClr val="000000"/>
                </a:solidFill>
                <a:latin typeface="Arial"/>
              </a:rPr>
              <a:t>에 대한 기본적인 변수는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p.h </a:t>
            </a:r>
            <a:r>
              <a:rPr b="1" lang="ko-KR" sz="2500" spc="-1" strike="noStrike">
                <a:solidFill>
                  <a:srgbClr val="000000"/>
                </a:solidFill>
                <a:latin typeface="Arial"/>
              </a:rPr>
              <a:t>에 선언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pos pos_data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char Map_data[Map_Xsize][Map_Ysize]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POINT m_startP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POINT m_endP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503280" y="529920"/>
            <a:ext cx="818352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9f2936"/>
                </a:solidFill>
                <a:latin typeface="Arial"/>
              </a:rPr>
              <a:t>기능별 세부 설명</a:t>
            </a:r>
            <a:r>
              <a:rPr b="1" lang="en-US" sz="2800" spc="-1" strike="noStrike">
                <a:solidFill>
                  <a:srgbClr val="9f293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f2936"/>
                </a:solidFill>
                <a:latin typeface="Arial"/>
              </a:rPr>
              <a:t>( Map </a:t>
            </a:r>
            <a:r>
              <a:rPr b="1" lang="ko-KR" sz="2800" spc="-1" strike="noStrike">
                <a:solidFill>
                  <a:srgbClr val="9f2936"/>
                </a:solidFill>
                <a:latin typeface="Arial"/>
              </a:rPr>
              <a:t>관련 </a:t>
            </a:r>
            <a:r>
              <a:rPr b="1" lang="en-US" sz="2800" spc="-1" strike="noStrike">
                <a:solidFill>
                  <a:srgbClr val="9f293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f2936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4929120" y="1785960"/>
            <a:ext cx="328608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시작점과 끝점을 표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중간의 장애물 표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거리와 시간 측정 표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LL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을 선택 가능 버튼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LL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선택 시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imer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를 돌려서 그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OOT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를 하나씩 표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14240" y="1428840"/>
            <a:ext cx="3957840" cy="36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03280" y="529920"/>
            <a:ext cx="818352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9f2936"/>
                </a:solidFill>
                <a:latin typeface="굴림"/>
              </a:rPr>
              <a:t>기능별 세부 설명</a:t>
            </a:r>
            <a:r>
              <a:rPr b="1" lang="en-US" sz="2800" spc="-1" strike="noStrike">
                <a:solidFill>
                  <a:srgbClr val="9f293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9f2936"/>
                </a:solidFill>
                <a:latin typeface="굴림"/>
              </a:rPr>
              <a:t>( </a:t>
            </a:r>
            <a:r>
              <a:rPr b="1" lang="ko-KR" sz="2800" spc="-1" strike="noStrike">
                <a:solidFill>
                  <a:srgbClr val="9f2936"/>
                </a:solidFill>
                <a:latin typeface="굴림"/>
              </a:rPr>
              <a:t>알고리즘 관련 </a:t>
            </a:r>
            <a:r>
              <a:rPr b="1" lang="en-US" sz="2800" spc="-1" strike="noStrike">
                <a:solidFill>
                  <a:srgbClr val="9f293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- Map.h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Map.txt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map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에 대한 정보를 받아옴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- pos pos_data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- char Map_data[Map_Xsize][Map_Ysize]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- POINT m_startP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- POINT m_endPo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각 알고리즘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(Ai)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를 독립적으로 실행 가능하도록 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DLL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파일로 만들어서 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Map </a:t>
            </a:r>
            <a:r>
              <a:rPr b="0" lang="ko-KR" sz="2500" spc="-1" strike="noStrike">
                <a:solidFill>
                  <a:srgbClr val="000000"/>
                </a:solidFill>
                <a:latin typeface="굴림"/>
              </a:rPr>
              <a:t>프로그램에 적용</a:t>
            </a:r>
            <a:r>
              <a:rPr b="0" lang="en-US" sz="25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03280" y="529920"/>
            <a:ext cx="818352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9f2936"/>
                </a:solidFill>
                <a:latin typeface="굴림"/>
              </a:rPr>
              <a:t>기능별 세부 설명</a:t>
            </a:r>
            <a:r>
              <a:rPr b="1" lang="en-US" sz="2800" spc="-1" strike="noStrike">
                <a:solidFill>
                  <a:srgbClr val="9f293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9f2936"/>
                </a:solidFill>
                <a:latin typeface="굴림"/>
              </a:rPr>
              <a:t>( </a:t>
            </a:r>
            <a:r>
              <a:rPr b="1" lang="ko-KR" sz="2800" spc="-1" strike="noStrike">
                <a:solidFill>
                  <a:srgbClr val="9f2936"/>
                </a:solidFill>
                <a:latin typeface="굴림"/>
              </a:rPr>
              <a:t>알고리즘 관련 </a:t>
            </a:r>
            <a:r>
              <a:rPr b="1" lang="en-US" sz="2800" spc="-1" strike="noStrike">
                <a:solidFill>
                  <a:srgbClr val="9f293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ko-KR" sz="2500" spc="-1" strike="noStrike">
                <a:solidFill>
                  <a:srgbClr val="000000"/>
                </a:solidFill>
                <a:latin typeface="Verdana"/>
              </a:rPr>
              <a:t>좌선 법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ko-KR" sz="2500" spc="-1" strike="noStrike">
                <a:solidFill>
                  <a:srgbClr val="000000"/>
                </a:solidFill>
                <a:latin typeface="Verdana"/>
              </a:rPr>
              <a:t>갈림길을 만났을 우선적으로 왼쪽으로 가는 방법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ko-KR" sz="2500" spc="-1" strike="noStrike">
                <a:solidFill>
                  <a:srgbClr val="000000"/>
                </a:solidFill>
                <a:latin typeface="Verdana"/>
              </a:rPr>
              <a:t>즉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2500" spc="-1" strike="noStrike">
                <a:solidFill>
                  <a:srgbClr val="000000"/>
                </a:solidFill>
                <a:latin typeface="Verdana"/>
              </a:rPr>
              <a:t>왼쪽이 갈수 있는 길인지 아닌지 확인 하고 갈수 있는 길이면 가는 알고리즘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ko-KR" sz="2500" spc="-1" strike="noStrike">
                <a:solidFill>
                  <a:srgbClr val="000000"/>
                </a:solidFill>
                <a:latin typeface="Verdana"/>
              </a:rPr>
              <a:t>우선 법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ko-KR" sz="2500" spc="-1" strike="noStrike">
                <a:solidFill>
                  <a:srgbClr val="000000"/>
                </a:solidFill>
                <a:latin typeface="Verdana"/>
              </a:rPr>
              <a:t>갈림길을 만났을 우선적으로 오른쪽으로 가는 방법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ko-KR" sz="2500" spc="-1" strike="noStrike">
                <a:solidFill>
                  <a:srgbClr val="000000"/>
                </a:solidFill>
                <a:latin typeface="Verdana"/>
              </a:rPr>
              <a:t>즉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2500" spc="-1" strike="noStrike">
                <a:solidFill>
                  <a:srgbClr val="000000"/>
                </a:solidFill>
                <a:latin typeface="Verdana"/>
              </a:rPr>
              <a:t>오른쪽이 갈수 있는 길인지 아닌지 확인하고 갈 수 있는 길이면 가는 알고리즘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5:41:03Z</dcterms:created>
  <dc:creator>SUBY</dc:creator>
  <dc:description/>
  <dc:language>en-US</dc:language>
  <cp:lastModifiedBy>SUBY</cp:lastModifiedBy>
  <dcterms:modified xsi:type="dcterms:W3CDTF">2007-06-18T04:40:52Z</dcterms:modified>
  <cp:revision>73</cp:revision>
  <dc:subject/>
  <dc:title>Path Finding… </dc:title>
</cp:coreProperties>
</file>